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9.wmf" ContentType="image/x-wmf"/>
  <Override PartName="/ppt/media/image14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5.wmf" ContentType="image/x-wmf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5DE5-350A-4213-803C-E7E95567A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0811-9B85-47E4-BF2E-62706871684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Notes Placeholder 7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chlieph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D528-B0E0-45CC-B478-10AA22247E8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070-DCC1-42C7-8D68-5354A9C0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2168-E615-49A3-A341-AC0F8FF2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0DE7-412B-46D2-9CA8-34704B54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41E-0282-4880-ACDC-1DFCF854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36CE-06A3-4146-A0ED-9425168E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AA52-DA7F-42B5-A8D7-D862AA49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853F-9AE3-40B7-9295-AEE831E2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4943-708D-4768-9F4B-9373B4F8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FBE0-8D1F-47AF-937C-18A5E371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871D-F952-4694-8410-1070D0CF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A861-B5C9-4167-B0D0-0D636323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457-A920-4C1F-AC32-DC55FC38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DD6E-D1DC-418C-A682-583B5961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F186-127C-493E-919C-6B285D90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81CA-70C4-4B54-AC4B-1D538003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7A87-0933-4086-BAD6-197BE41B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B976-A9C2-4C10-8E1C-D6814BD0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32C0F-6B09-403D-B87A-3FA19691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5ED69-B5AD-4AE7-8C62-0FDAB0E2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67ABC-33BB-4C51-93ED-4090F750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0AD61-CB36-49C9-ACBF-3BE438FD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44DD5-11A8-406B-8FDC-F221F66F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AAE-E01C-4982-835F-8D39CCDC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7DD2D-B804-4209-872A-59C7892E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A768C-83EE-4D9F-BD78-DA13DBE8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32FAB-307B-4A93-86DD-5DF1D2C2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708C3-413E-435A-9B9B-6F81EA30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3586F-D694-4EE0-95A9-E20D13F6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32FAA-7B3D-4B21-89EF-8E4DB19B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9524E-8A63-4A0B-9131-C83CD5F0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360-8231-4BBF-9599-C5E06B0E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8ED4-3125-4815-B729-0D040040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B4B3-3597-40DF-8895-7753877B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65D-6731-4710-9E02-E0D55C62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19C9-5D75-4C1D-B6B3-87E3C38C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11F-CD26-4C3C-B766-22355B5D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A501-4FC1-48EB-A20B-5DC739B782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15CB-911E-4AF9-9136-77AF66FCBE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9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421B-2A96-44D4-B2E2-7405F1360CE9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НАИЗМЕНИЧ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изменичн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арактериш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омен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нтензитет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авц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ретањ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орија ендогених опиоид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стојајне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ендогеног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опијатног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неопијатног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система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стизању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аналгетског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ефекта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опијатн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рецептори:м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апа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делта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ослобађају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енкефалин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ендорфин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динорфин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дикације за ТЕН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стоперативни бо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рођајни бо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исменоре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РА и О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уропатски бол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(постехерпетични, неуралгија н.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V,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Мб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удек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стампутациони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нгина пектори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онтраиндикације за ТЕН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Ep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Sinus carotic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Гравидни утеру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штећена кож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редњ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реквен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нтерферентне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mec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руј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инусоидно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одулисане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рује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уска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имулација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хоризонтална терапи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терферент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инусоидалн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eaeaea"/>
                </a:solidFill>
                <a:uFillTx/>
                <a:latin typeface="Times New Roman"/>
              </a:rPr>
              <a:t>ниске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eaeaea"/>
                </a:solidFill>
                <a:uFillTx/>
                <a:latin typeface="Times New Roman"/>
              </a:rPr>
              <a:t>фреквенце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стају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eaeaea"/>
                </a:solidFill>
                <a:uFillTx/>
                <a:latin typeface="Times New Roman"/>
              </a:rPr>
              <a:t>ендогено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кивим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уперпозицијо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нтерференцијо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редњефреквентних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з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в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амосталн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н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биостру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в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мај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сти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нтезитет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,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различит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фреквенциј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мпонент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м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електролиз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теферент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Немец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ов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н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стантн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4000 Hz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н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ријабилн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3900-4100 H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1-10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H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,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тели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5029200" y="4876920"/>
            <a:ext cx="3809880" cy="1014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80988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ехник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римен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локал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гмент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едов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зон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англиотроп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ндард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очаст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ку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пецијал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вополарн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четворополарн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000" spc="-1" strike="noStrike">
                <a:solidFill>
                  <a:srgbClr val="ffcc66"/>
                </a:solidFill>
                <a:latin typeface="Times New Roman"/>
              </a:rPr>
              <a:t>Биолошки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e</a:t>
            </a:r>
            <a:r>
              <a:rPr b="1" lang="sr-CS" sz="4000" spc="-1" strike="noStrike">
                <a:solidFill>
                  <a:srgbClr val="ffcc66"/>
                </a:solidFill>
                <a:latin typeface="Times New Roman"/>
              </a:rPr>
              <a:t>фекти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0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имулатив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крвоток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изазивајући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вазодилатацију(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бољ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прокрвљеност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кигенациј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ткив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брж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дстрањивањ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токсин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медијатор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бол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аналгетск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због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бољ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циркулациј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ксигенациј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ткив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дејств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нервн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завршетк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овећавај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адражљивост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проводљивост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ериферних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ерав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инхибитор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импатикус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имулиш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арасимпатикус (</a:t>
            </a:r>
            <a:r>
              <a:rPr b="1" lang="sr-Latn-CS" sz="2000" spc="-1" strike="noStrike">
                <a:solidFill>
                  <a:srgbClr val="eaeaea"/>
                </a:solidFill>
                <a:latin typeface="Times New Roman"/>
              </a:rPr>
              <a:t>AcH,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могућ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других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хемијск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активних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материј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тганизм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убрзавај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лимфоток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што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могућав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активниј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размен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електролит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посебно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натријум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калцијум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калијум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ресорпциј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едем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обољшавај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трофик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активирајућ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ксидоредукцион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процес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рганизм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стимулиш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зарастањ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ран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имулиш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варање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калус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код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фрактур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мењај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eaeaea"/>
                </a:solidFill>
                <a:latin typeface="Times New Roman"/>
              </a:rPr>
              <a:t>pH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вредност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к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алкалност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антиинфламатор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убрзавајућ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циркулациј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метаболизам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ресорпциј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имулатив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опреч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ругаст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глатк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мишићн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влакн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изиолошки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ефекат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0-10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контракција мишић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90-100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Hz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аналгетски и симпатиколитички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0-100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активна хиперемија, метаболизам и елиминација токсичних продуката; антиедема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60-100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стимулативно деловање на регенерацију повређених нерава, мишића, кости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100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 const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 симпатиколитичк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озирањ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јачи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) -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убјективн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) -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ем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ијагноз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ајањ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оцедур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ин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) - 5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3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ужи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етма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ограничен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аизменичн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иск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фреквенциј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искофреквентн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251604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фарадск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руј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анскутан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електричн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еуралн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имулациј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ЕНС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дикациј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сттрауматск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ањ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нтуз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исторз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луксац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..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штан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елом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њихов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мпликац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сеудоартроз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Sudeck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..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цервикалн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лумбалн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индром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уралг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уритиси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ањ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сл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вред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живаца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ртритис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ртроз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Bechtere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w,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HS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Burger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Raunauyd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онтраиндикациј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фебрилнос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екомпензац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виталних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рган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кут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нфектив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удноћ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омбофлебити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алигнитет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инусоид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модулиса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уск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имулациј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асногордск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1969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500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ијск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фекат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10-15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з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809880" cy="3886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6"/>
          <p:cNvSpPr/>
          <p:nvPr/>
        </p:nvSpPr>
        <p:spPr>
          <a:xfrm>
            <a:off x="1143000" y="3886200"/>
            <a:ext cx="39625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уби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дулац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100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уби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дулац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50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тинуира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исокофреквент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ек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100.000 H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есл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189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годин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в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писа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оплотн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фека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'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рсонвал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1892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године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спитива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фект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Ф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овечиј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рганиза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gelschmit 1908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годин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мен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Ф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зив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"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иатерми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200b5b"/>
                </a:solidFill>
                <a:latin typeface="Times New Roman"/>
              </a:rPr>
              <a:t>Шта је дијатермија?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42720" y="152352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Употреба нејонизујуће електромагнетне енергије из радио-фреквенцијског спектра као терап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ј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ског средств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-17640" y="2819520"/>
            <a:ext cx="9179280" cy="3809880"/>
          </a:xfrm>
          <a:prstGeom prst="rect">
            <a:avLst/>
          </a:prstGeom>
          <a:ln w="0">
            <a:noFill/>
          </a:ln>
        </p:spPr>
      </p:pic>
      <p:sp>
        <p:nvSpPr>
          <p:cNvPr id="229" name="Oval 7"/>
          <p:cNvSpPr/>
          <p:nvPr/>
        </p:nvSpPr>
        <p:spPr>
          <a:xfrm>
            <a:off x="1447920" y="5486400"/>
            <a:ext cx="685800" cy="60948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3429000" y="5486400"/>
            <a:ext cx="685800" cy="60948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2362320" y="5486400"/>
            <a:ext cx="761760" cy="60948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вак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a VFS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представља електромагнетну енергиј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ко проводника-ЕМП,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роз проводник електрична стру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је ће поље превагнути зависи од фреквенци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(таласне дужине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74674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Нормалан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распоред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дипол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молекула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у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организму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и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њихова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орјентација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и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сређеност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у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кондензаторском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колу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6" descr="KTD1"/>
          <p:cNvPicPr/>
          <p:nvPr/>
        </p:nvPicPr>
        <p:blipFill>
          <a:blip r:embed="rId1"/>
          <a:stretch/>
        </p:blipFill>
        <p:spPr>
          <a:xfrm>
            <a:off x="1219320" y="1984320"/>
            <a:ext cx="632448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ејств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арн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јств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мичк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кундар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јств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3809880" y="2895480"/>
            <a:ext cx="4953240" cy="3429000"/>
          </a:xfrm>
          <a:prstGeom prst="rect">
            <a:avLst/>
          </a:prstGeom>
          <a:ln cap="sq" w="1260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Експериментални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докази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физичког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термичког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)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деловања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а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организам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 Lenn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рв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прувет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ставље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ратких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алас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рж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грев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ег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прувет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рум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вај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ксперимент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казу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реди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рж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грев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к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иш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естиц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ећ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рењ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Е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ssa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раствор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арафи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ип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ал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N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C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би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мулзи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ључ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љ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Ф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ижој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емператур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ег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јој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ључ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од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Разлоз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горње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мер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Ко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rchi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раствор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лбуми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еланц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агулиш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љ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Ф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55-57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,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оден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упатил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62-64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арадск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62520" y="12193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арадеј 1831. године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асиметрија, ирегуларност циклус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тварањ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тварањ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рујног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л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марн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лем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ндукци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кундарн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лем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ндукционог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парат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следиц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изменичног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тварањ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л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"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ласичн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ли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762120" y="1904760"/>
            <a:ext cx="4038120" cy="4525920"/>
            <a:chOff x="762120" y="1904760"/>
            <a:chExt cx="4038120" cy="4525920"/>
          </a:xfrm>
        </p:grpSpPr>
        <p:sp>
          <p:nvSpPr>
            <p:cNvPr id="149" name="Line 7"/>
            <p:cNvSpPr/>
            <p:nvPr/>
          </p:nvSpPr>
          <p:spPr>
            <a:xfrm>
              <a:off x="798480" y="4642200"/>
              <a:ext cx="40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 flipV="1">
              <a:off x="762120" y="1919880"/>
              <a:ext cx="0" cy="256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 flipV="1">
              <a:off x="762840" y="1904760"/>
              <a:ext cx="0" cy="265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939600" y="3164400"/>
              <a:ext cx="376560" cy="2436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Freeform 11"/>
            <p:cNvSpPr/>
            <p:nvPr/>
          </p:nvSpPr>
          <p:spPr>
            <a:xfrm>
              <a:off x="1426320" y="2350440"/>
              <a:ext cx="170280" cy="3302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Freeform 12"/>
            <p:cNvSpPr/>
            <p:nvPr/>
          </p:nvSpPr>
          <p:spPr>
            <a:xfrm>
              <a:off x="2760120" y="3055680"/>
              <a:ext cx="437040" cy="2493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Freeform 13"/>
            <p:cNvSpPr/>
            <p:nvPr/>
          </p:nvSpPr>
          <p:spPr>
            <a:xfrm>
              <a:off x="1818360" y="3231720"/>
              <a:ext cx="345240" cy="2351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Freeform 14"/>
            <p:cNvSpPr/>
            <p:nvPr/>
          </p:nvSpPr>
          <p:spPr>
            <a:xfrm>
              <a:off x="2368080" y="2703240"/>
              <a:ext cx="232920" cy="3727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Експериментални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докази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физичког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термичког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)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деловања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а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организам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chliephak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екна хлеба се пресече на три дела и између њих се ставе изолаторске плоче. Када се на крајевима векне укључи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TD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 унутрашњи део векне има 5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, а спољашњи делови 60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. Ако укључимо у коло КТ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-а, температура у сва три дела векне ће бити ист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Високофреквентна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стру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изменичн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труј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фреквенцијом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преко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100 000 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000" spc="-1" strike="noStrike">
                <a:solidFill>
                  <a:srgbClr val="eaeaea"/>
                </a:solidFill>
                <a:latin typeface="Times New Roman"/>
              </a:rPr>
              <a:t>специфични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000" spc="-1" strike="noStrike">
                <a:solidFill>
                  <a:srgbClr val="eaeaea"/>
                </a:solidFill>
                <a:latin typeface="Times New Roman"/>
              </a:rPr>
              <a:t>облик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000" spc="-1" strike="noStrike">
                <a:solidFill>
                  <a:srgbClr val="eaeaea"/>
                </a:solidFill>
                <a:latin typeface="Times New Roman"/>
              </a:rPr>
              <a:t>термотерапиј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квир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г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ристи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оплот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ј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стај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претварањем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Latn-C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ff0000"/>
                </a:solidFill>
                <a:latin typeface="Times New Roman"/>
              </a:rPr>
              <a:t>конверзијом</a:t>
            </a:r>
            <a:r>
              <a:rPr b="0" lang="sr-Latn-C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 апсорбован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e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електромагнетн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енергије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оплот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творен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рганизм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вај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чин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зив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000" spc="-1" strike="noStrike" u="sng">
                <a:solidFill>
                  <a:srgbClr val="eaeaea"/>
                </a:solidFill>
                <a:uFillTx/>
                <a:latin typeface="Times New Roman"/>
              </a:rPr>
              <a:t>ендогеном</a:t>
            </a:r>
            <a:r>
              <a:rPr b="1" lang="en-US" sz="30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3000" spc="-1" strike="noStrike" u="sng">
                <a:solidFill>
                  <a:srgbClr val="eaeaea"/>
                </a:solidFill>
                <a:uFillTx/>
                <a:latin typeface="Times New Roman"/>
              </a:rPr>
              <a:t>топлотом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зато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што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стај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амим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кивим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з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разлик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егзоген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оплот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јом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делуј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пољ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ж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екундарн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ејств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циркулациј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вазодилататорн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рвн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истем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едативн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налгетск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ишић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релаксаци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везив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већањ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стегљивост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етаболизам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ензимск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ктивнос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бактериостатичк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бактерицидн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ејств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одел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'Arsonvalizacija (100.000 H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</a:t>
            </a: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gotalasna dijatermija (500.000 - 1.000.000 H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ratkotalasna dijatermija (KTD) 10-100 MH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ltrakaratkotalasna dijatermija (434,78 MH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ikrotalasna dijatermija (2.450 MH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раткоталас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ијатермиј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алас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ужин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2,12 m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11,06 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3,56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7,1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ТИНУИРАН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МПУЛС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9625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Апарат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*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генераторско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изменич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једносмерн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иод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нод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атод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решет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*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сцилаторно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сцилац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висок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фреквенциј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*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ацијентово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66"/>
                </a:solidFill>
                <a:latin typeface="Times New Roman"/>
              </a:rPr>
              <a:t>Електроде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cc66"/>
                </a:solidFill>
                <a:latin typeface="Times New Roman"/>
              </a:rPr>
              <a:t>за дијатермију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371240" y="2666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Стаклен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по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Schliephak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ањираст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акленим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пам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Плочаст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гумен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Rab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ов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Калем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Индукциони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кабл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вод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Апарат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 са кондезаторским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електрод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ам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9" name="Picture 5" descr="Termomed"/>
          <p:cNvPicPr/>
          <p:nvPr/>
        </p:nvPicPr>
        <p:blipFill>
          <a:blip r:embed="rId1"/>
          <a:stretch/>
        </p:blipFill>
        <p:spPr>
          <a:xfrm>
            <a:off x="3352680" y="1828800"/>
            <a:ext cx="284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2209680" y="420840"/>
            <a:ext cx="487692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5943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bebeb"/>
                </a:solidFill>
                <a:latin typeface="Times New Roman"/>
              </a:rPr>
              <a:t>А</a:t>
            </a:r>
            <a:r>
              <a:rPr b="1" lang="en-US" sz="3200" spc="-1" strike="noStrike">
                <a:solidFill>
                  <a:srgbClr val="ebebeb"/>
                </a:solidFill>
                <a:latin typeface="Times New Roman"/>
              </a:rPr>
              <a:t>)  </a:t>
            </a:r>
            <a:r>
              <a:rPr b="1" lang="sr-CS" sz="3200" spc="-1" strike="noStrike">
                <a:solidFill>
                  <a:srgbClr val="ebebeb"/>
                </a:solidFill>
                <a:latin typeface="Times New Roman"/>
              </a:rPr>
              <a:t>Кондензаторско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1430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дензаторно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вар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змеђу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в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дензатор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дензатори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у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ачињени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лних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оч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је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у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ложене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ким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золатором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кло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ум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учук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Стаклен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по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Schliephake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ањираст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акленим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пам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Плочаст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гумен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Rabb-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ов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3" name="Picture 4" descr="Termomed"/>
          <p:cNvPicPr/>
          <p:nvPr/>
        </p:nvPicPr>
        <p:blipFill>
          <a:blip r:embed="rId1"/>
          <a:srcRect l="0" t="0" r="0" b="21429"/>
          <a:stretch/>
        </p:blipFill>
        <p:spPr>
          <a:xfrm>
            <a:off x="7153200" y="0"/>
            <a:ext cx="1990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Техника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примен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19320" y="1599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Стабилн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етод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иполар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хник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очастим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лним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ам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Лабилна</a:t>
            </a:r>
            <a:r>
              <a:rPr b="1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етод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нополарна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хни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тивна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а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лику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љка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лику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ње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еће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четке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7162920" cy="594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Б</a:t>
            </a:r>
            <a:r>
              <a:rPr b="1" lang="sv-SE" sz="2800" spc="-1" strike="noStrike">
                <a:solidFill>
                  <a:srgbClr val="ebebeb"/>
                </a:solidFill>
                <a:latin typeface="Times New Roman"/>
              </a:rPr>
              <a:t>)  </a:t>
            </a: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Електрода</a:t>
            </a:r>
            <a:r>
              <a:rPr b="1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за</a:t>
            </a:r>
            <a:r>
              <a:rPr b="1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електромагнетно</a:t>
            </a:r>
            <a:r>
              <a:rPr b="1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поље</a:t>
            </a:r>
            <a:r>
              <a:rPr b="0" lang="sr-Latn-C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боље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се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загревају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мишићи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док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загревање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органа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у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дубини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изостаје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208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а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)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Калем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електроде</a:t>
            </a:r>
            <a:r>
              <a:rPr b="1" lang="sv-SE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алем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више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мотај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мештен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ућишту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тављају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1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5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ел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Монод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( 14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, 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Р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= 200 W )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Минод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( 8,5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, 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Р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= 70 W )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3.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Диплод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(  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Р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= 200 W )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б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)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Индукциони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кабл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или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вод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аксијални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бел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2-3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ложен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золатором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ристи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мотавањ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кстремитет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пликацију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лику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љоснатог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лем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пецијалној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филцаној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влаци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8" name="Picture 4" descr="KTD monoda"/>
          <p:cNvPicPr/>
          <p:nvPr/>
        </p:nvPicPr>
        <p:blipFill>
          <a:blip r:embed="rId1"/>
          <a:srcRect l="0" t="53904" r="0" b="0"/>
          <a:stretch/>
        </p:blipFill>
        <p:spPr>
          <a:xfrm>
            <a:off x="6811920" y="1981080"/>
            <a:ext cx="2332080" cy="2057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KTD solenoid"/>
          <p:cNvPicPr/>
          <p:nvPr/>
        </p:nvPicPr>
        <p:blipFill>
          <a:blip r:embed="rId2"/>
          <a:stretch/>
        </p:blipFill>
        <p:spPr>
          <a:xfrm>
            <a:off x="6172200" y="6010200"/>
            <a:ext cx="29718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дукциони кабл (магнетно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1" name="Picture 22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784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781680" cy="601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оложај електрод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а супротних страна-дубљи ефекат,са исте стране тела-површински ефека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За дубље дејство на 3-4 цм од површине коже, за површно дејство на  1 цм од површине кож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мпулсна 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ристи кратке таласе 27,12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ј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емитуј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мпулсим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ауз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змеђ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мпулс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могућав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ворена топлота одводи циркулацијо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римарно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еловањ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ндезаторск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оводник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рењ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твар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плот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ж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ткожн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кив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ДУКТИВ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золатор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ријентаци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ипол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ПАЦИТИВН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Електро</a:t>
            </a:r>
            <a:r>
              <a:rPr b="0" lang="sr-CS" sz="3200" spc="-1" strike="noStrike" u="sng">
                <a:solidFill>
                  <a:srgbClr val="eaeaea"/>
                </a:solidFill>
                <a:uFillTx/>
                <a:latin typeface="Times New Roman"/>
              </a:rPr>
              <a:t>магнетн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дукцијо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стај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ртлож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укоов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окрвљени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егијама,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ишићим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Начини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гревањ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од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ондезаторско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дуктив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рење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кле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астојањ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л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Schliephake-o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е), ил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очаст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уме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Rabb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ж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сн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кив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Индукционо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ртлож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уј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ле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инод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8,5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70 W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нод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14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200 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дукцио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бл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ишић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6" descr="KTD dub"/>
          <p:cNvPicPr/>
          <p:nvPr/>
        </p:nvPicPr>
        <p:blipFill>
          <a:blip r:embed="rId1"/>
          <a:stretch/>
        </p:blipFill>
        <p:spPr>
          <a:xfrm>
            <a:off x="2209680" y="152280"/>
            <a:ext cx="4876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KTD1"/>
          <p:cNvPicPr/>
          <p:nvPr/>
        </p:nvPicPr>
        <p:blipFill>
          <a:blip r:embed="rId1"/>
          <a:srcRect l="0" t="0" r="4409" b="0"/>
          <a:stretch/>
        </p:blipFill>
        <p:spPr>
          <a:xfrm>
            <a:off x="1219320" y="347760"/>
            <a:ext cx="3886200" cy="24876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KTD aplikacija"/>
          <p:cNvPicPr/>
          <p:nvPr/>
        </p:nvPicPr>
        <p:blipFill>
          <a:blip r:embed="rId2"/>
          <a:srcRect l="0" t="0" r="13027" b="0"/>
          <a:stretch/>
        </p:blipFill>
        <p:spPr>
          <a:xfrm>
            <a:off x="1523880" y="3048120"/>
            <a:ext cx="2362320" cy="3809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KTD kolena"/>
          <p:cNvPicPr/>
          <p:nvPr/>
        </p:nvPicPr>
        <p:blipFill>
          <a:blip r:embed="rId3"/>
          <a:stretch/>
        </p:blipFill>
        <p:spPr>
          <a:xfrm>
            <a:off x="4876920" y="2365200"/>
            <a:ext cx="4267080" cy="4240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KTD dub2"/>
          <p:cNvPicPr/>
          <p:nvPr/>
        </p:nvPicPr>
        <p:blipFill>
          <a:blip r:embed="rId4"/>
          <a:stretch/>
        </p:blipFill>
        <p:spPr>
          <a:xfrm>
            <a:off x="5181480" y="380880"/>
            <a:ext cx="38102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ехник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римен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билн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лабил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арадизациј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572000" y="2171880"/>
            <a:ext cx="4233960" cy="2514600"/>
          </a:xfrm>
          <a:prstGeom prst="rect">
            <a:avLst/>
          </a:prstGeom>
          <a:ln cap="sq" w="1260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KTD monoda"/>
          <p:cNvPicPr/>
          <p:nvPr/>
        </p:nvPicPr>
        <p:blipFill>
          <a:blip r:embed="rId1"/>
          <a:stretch/>
        </p:blipFill>
        <p:spPr>
          <a:xfrm>
            <a:off x="3587760" y="304920"/>
            <a:ext cx="3035160" cy="5790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KTD monoda rame i lice"/>
          <p:cNvPicPr/>
          <p:nvPr/>
        </p:nvPicPr>
        <p:blipFill>
          <a:blip r:embed="rId2"/>
          <a:stretch/>
        </p:blipFill>
        <p:spPr>
          <a:xfrm>
            <a:off x="0" y="304920"/>
            <a:ext cx="5029200" cy="2419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KTD potkolenica"/>
          <p:cNvPicPr/>
          <p:nvPr/>
        </p:nvPicPr>
        <p:blipFill>
          <a:blip r:embed="rId3"/>
          <a:stretch/>
        </p:blipFill>
        <p:spPr>
          <a:xfrm>
            <a:off x="0" y="2743200"/>
            <a:ext cx="21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Примена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КТД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-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а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у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лечењу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стерилите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7880" y="2286000"/>
            <a:ext cx="7689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е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ормонал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и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куша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ештачк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плодњ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вод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и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ирушк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тервенци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снов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циљ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д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е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ТД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стиг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ипереми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иво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л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рлице, чим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рга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ивај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премље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имулиса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з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тивност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295" name="Content Placeholder 3" descr="ktd pac2.jpg"/>
          <p:cNvPicPr/>
          <p:nvPr/>
        </p:nvPicPr>
        <p:blipFill>
          <a:blip r:embed="rId1"/>
          <a:stretch/>
        </p:blipFill>
        <p:spPr>
          <a:xfrm>
            <a:off x="1785960" y="380880"/>
            <a:ext cx="6367320" cy="558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Ендоген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опло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7" name="Picture 7" descr=""/>
          <p:cNvPicPr/>
          <p:nvPr/>
        </p:nvPicPr>
        <p:blipFill>
          <a:blip r:embed="rId1"/>
          <a:stretch/>
        </p:blipFill>
        <p:spPr>
          <a:xfrm>
            <a:off x="2343240" y="2171880"/>
            <a:ext cx="42098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Дозирањ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зирањ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ијатерми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рш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200b5b"/>
                </a:solidFill>
                <a:latin typeface="Times New Roman"/>
              </a:rPr>
              <a:t>ватим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аксимал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з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знос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100W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з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дређу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ем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убјективн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сећај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олесника-треб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сећ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јатн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лаг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оплот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озирањ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атермичк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м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икакво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сећа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плот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олиготермичк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едв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очљи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сећај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плот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ермичка-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јатна топлот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хипертермичк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ак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сећај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оплот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28840" y="4266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рајање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роцедур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5-3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и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дужина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ретма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1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ан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дикациј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сттрауматск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њихов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мпликаци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рист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вежих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вред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запаљенск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генератив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нзглоб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еуматизм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аз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емисиј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инеколошк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ронич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специфич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запаље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ститис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ерилитет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ар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кундар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РЛ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инуситис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ронич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титис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уролошк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уралг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уритис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филтрат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сл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ируршких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филтрат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сл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пал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ућ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еурит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бсцес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ж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нтибиотск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urunkuli,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rbunculi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онтраиндикациј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ебрилнос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ут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фектив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клоност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рварењ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равидите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Б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ремећај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нзибилитет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мичк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раж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клузив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ртеријск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ce mak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Мер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опре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ce mak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луш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пара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ат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итети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в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рст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л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лаг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плот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ЕУТ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ОСТОРИЈ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справ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блов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е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кршта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одиривањ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уме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лов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е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такт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ло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о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тез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ајтан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ук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е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мера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bebeb"/>
                </a:solidFill>
                <a:latin typeface="Times New Roman"/>
              </a:rPr>
              <a:t>Мере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ebebeb"/>
                </a:solidFill>
                <a:latin typeface="Times New Roman"/>
              </a:rPr>
              <a:t>предострожност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66320" y="18288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ацијент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треб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објасни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ток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сеанс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треб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осет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благу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оплот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р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римен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КТД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н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вред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девиз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: "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јач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омаж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виш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"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каблов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кој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овезуј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елецтрод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с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апаратом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морај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би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исправн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н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смеј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укршта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ни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додиривати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води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рачун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гумен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делов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електрод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рикључних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каблов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не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додирују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ело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ацијент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Неофарадска</a:t>
            </a:r>
            <a:r>
              <a:rPr b="1" lang="sv-SE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стру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2438280" y="2438280"/>
            <a:ext cx="5791320" cy="1919520"/>
            <a:chOff x="2438280" y="2438280"/>
            <a:chExt cx="5791320" cy="1919520"/>
          </a:xfrm>
        </p:grpSpPr>
        <p:sp>
          <p:nvSpPr>
            <p:cNvPr id="164" name="Line 5"/>
            <p:cNvSpPr/>
            <p:nvPr/>
          </p:nvSpPr>
          <p:spPr>
            <a:xfrm>
              <a:off x="2468160" y="4321440"/>
              <a:ext cx="576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4684320" y="3060720"/>
              <a:ext cx="242640" cy="1251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6625080" y="3060720"/>
              <a:ext cx="242280" cy="1251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2683080" y="3060720"/>
              <a:ext cx="242280" cy="1251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 flipV="1">
              <a:off x="2438280" y="2438280"/>
              <a:ext cx="0" cy="19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1600200" y="4648320"/>
            <a:ext cx="678168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"</a:t>
            </a:r>
            <a:r>
              <a:rPr b="1" lang="sr-C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неофарадска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"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1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ауз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20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рист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дијагностичк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сврх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Ултракраткоталас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ијатермија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09880" cy="4876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настаје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генератору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са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магнетроном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од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100-500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МХз</a:t>
            </a:r>
            <a:r>
              <a:rPr b="0" lang="sr-Latn-CS" sz="2000" spc="-1" strike="noStrike">
                <a:solidFill>
                  <a:srgbClr val="200b5b"/>
                </a:solidFill>
                <a:latin typeface="Times New Roman"/>
              </a:rPr>
              <a:t>;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фреквенција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433,92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МХз</a:t>
            </a:r>
            <a:r>
              <a:rPr b="0" lang="sr-Latn-CS" sz="2000" spc="-1" strike="noStrike">
                <a:solidFill>
                  <a:srgbClr val="200b5b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таласна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дужина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69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цм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повољниј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ефекат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загревањ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масног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мишићног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ткив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кој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износ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4:1,</a:t>
            </a:r>
            <a:r>
              <a:rPr b="0" lang="sr-Latn-CS" sz="2000" spc="-1" strike="noStrike">
                <a:solidFill>
                  <a:srgbClr val="4d4d4d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код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КТД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однос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9:1</a:t>
            </a:r>
            <a:r>
              <a:rPr b="0" lang="sr-Latn-CS" sz="2000" spc="-1" strike="noStrike">
                <a:solidFill>
                  <a:srgbClr val="4d4d4d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Електрод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виду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рефлектор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кој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мож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имат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различито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пољ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зрачењ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максималн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доз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200 W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81480" y="1599840"/>
            <a:ext cx="3810240" cy="4876920"/>
          </a:xfrm>
          <a:prstGeom prst="rect">
            <a:avLst/>
          </a:prstGeom>
          <a:solidFill>
            <a:srgbClr val="bbca3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Топлотн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ефекат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резултат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конверзиј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електромагнетских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талас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топлоту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крвн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удов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капиларног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ред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проширују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3-10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пут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.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Проширењ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акон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зрачењ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одржав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еколик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дан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условљен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ам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топлотним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ег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импатиколитичним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ефектом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Базалн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метаболизам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повећав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(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ассет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)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ка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имунолошк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наг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организм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Микроталас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ијатерм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114800" cy="4724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660033"/>
                </a:solidFill>
                <a:latin typeface="Times New Roman"/>
              </a:rPr>
              <a:t>електромагнетске радијације високе фреквенције и мале таласне дужине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60033"/>
                </a:solidFill>
                <a:latin typeface="Times New Roman"/>
              </a:rPr>
              <a:t>Фреквенција с 2.000-18.000 МХз,  таласна дужина 15,0-1,67 ц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660033"/>
                </a:solidFill>
                <a:latin typeface="Times New Roman"/>
              </a:rPr>
              <a:t>У терапијским апаратима се користи фреквенција 2.450 МХз и таласна дужина од 12 ц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33760" y="1142640"/>
            <a:ext cx="3809880" cy="5715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сновно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примарно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физичко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деловањ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рганиза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стварањ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ендоген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оплот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зрачено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дел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ел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Продорност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вих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зрак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ко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00b5b"/>
                </a:solidFill>
                <a:latin typeface="Times New Roman"/>
              </a:rPr>
              <a:t>5 </a:t>
            </a:r>
            <a:r>
              <a:rPr b="1" lang="sr-CS" sz="2400" spc="-1" strike="noStrike">
                <a:solidFill>
                  <a:srgbClr val="200b5b"/>
                </a:solidFill>
                <a:latin typeface="Times New Roman"/>
              </a:rPr>
              <a:t>цм</a:t>
            </a:r>
            <a:r>
              <a:rPr b="1" lang="en-US" sz="2400" spc="-1" strike="noStrike">
                <a:solidFill>
                  <a:srgbClr val="200b5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Из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их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разлог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дубљ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положен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кив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н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ог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ретират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ви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физички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агенсо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Значајан</a:t>
            </a:r>
            <a:r>
              <a:rPr b="0" lang="sr-Latn-C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ниск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оплотн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коефицијент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абсорпциј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асно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кив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200b5b"/>
                </a:solidFill>
                <a:latin typeface="Times New Roman"/>
              </a:rPr>
              <a:t>(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днос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00b5b"/>
                </a:solidFill>
                <a:latin typeface="Times New Roman"/>
              </a:rPr>
              <a:t>1:1</a:t>
            </a:r>
            <a:r>
              <a:rPr b="0" lang="sr-Latn-C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асног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кив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ишићног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кива</a:t>
            </a:r>
            <a:r>
              <a:rPr b="0" lang="sr-Latn-CS" sz="2400" spc="-1" strike="noStrike">
                <a:solidFill>
                  <a:srgbClr val="200b5b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ишић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АТИЧКИ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ЕЛЕКТРИЦИТЕТ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ранклинизациј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е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тичко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ицитет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исоко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по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5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ијск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врх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змеђу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в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ављ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л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ачин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0,5 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електрисањ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дговар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тивној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ичн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рист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фект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гативних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тивних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снов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фекат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зодилата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јој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тход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раткотрај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соконстрик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зодилата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словљав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локалн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вишењ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мператур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шт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словљав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брза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болизам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плика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ж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ит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пшт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локал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cc66"/>
                </a:solidFill>
                <a:latin typeface="Times New Roman"/>
              </a:rPr>
              <a:t>Транскутана</a:t>
            </a:r>
            <a:r>
              <a:rPr b="0" lang="sv-SE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cc66"/>
                </a:solidFill>
                <a:latin typeface="Times New Roman"/>
              </a:rPr>
              <a:t>електрична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cc66"/>
                </a:solidFill>
                <a:latin typeface="Times New Roman"/>
              </a:rPr>
              <a:t>нервна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cc66"/>
                </a:solidFill>
                <a:latin typeface="Times New Roman"/>
              </a:rPr>
              <a:t>стимулација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sv-SE" sz="36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sr-CS" sz="3600" spc="-1" strike="noStrike">
                <a:solidFill>
                  <a:srgbClr val="ffcc66"/>
                </a:solidFill>
                <a:latin typeface="Times New Roman"/>
              </a:rPr>
              <a:t>ТЕНС</a:t>
            </a:r>
            <a:r>
              <a:rPr b="1" lang="sv-SE" sz="36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371600" y="2971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Импулси</a:t>
            </a:r>
            <a:r>
              <a:rPr b="1" lang="sr-Latn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ично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акетим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7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ише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еом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ратких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раје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0,05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0,4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с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75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125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у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роуг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авоуг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ифазн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онофазн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ог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мењиват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риј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7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ем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ри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нављ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3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ут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едној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кунд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2666880" y="1905120"/>
            <a:ext cx="4270320" cy="882360"/>
            <a:chOff x="2666880" y="1905120"/>
            <a:chExt cx="4270320" cy="882360"/>
          </a:xfrm>
        </p:grpSpPr>
        <p:sp>
          <p:nvSpPr>
            <p:cNvPr id="173" name="Line 5"/>
            <p:cNvSpPr/>
            <p:nvPr/>
          </p:nvSpPr>
          <p:spPr>
            <a:xfrm>
              <a:off x="2666880" y="2671920"/>
              <a:ext cx="427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 flipV="1">
              <a:off x="2682000" y="1905120"/>
              <a:ext cx="0" cy="76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Freeform 7"/>
            <p:cNvSpPr/>
            <p:nvPr/>
          </p:nvSpPr>
          <p:spPr>
            <a:xfrm>
              <a:off x="282672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Freeform 8"/>
            <p:cNvSpPr/>
            <p:nvPr/>
          </p:nvSpPr>
          <p:spPr>
            <a:xfrm>
              <a:off x="32612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Freeform 9"/>
            <p:cNvSpPr/>
            <p:nvPr/>
          </p:nvSpPr>
          <p:spPr>
            <a:xfrm>
              <a:off x="336960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351432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36590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>
              <a:off x="514296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311616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>
              <a:off x="29714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>
              <a:off x="525132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536004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>
              <a:off x="550476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Freeform 18"/>
            <p:cNvSpPr/>
            <p:nvPr/>
          </p:nvSpPr>
          <p:spPr>
            <a:xfrm>
              <a:off x="561348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Freeform 19"/>
            <p:cNvSpPr/>
            <p:nvPr/>
          </p:nvSpPr>
          <p:spPr>
            <a:xfrm>
              <a:off x="57218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Freeform 20"/>
            <p:cNvSpPr/>
            <p:nvPr/>
          </p:nvSpPr>
          <p:spPr>
            <a:xfrm>
              <a:off x="50342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ранскута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електрич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имулациј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ЕНС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ЕС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ерапиј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бол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равоугл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бифазн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онофазни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импулс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2-200 Hz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рајање имп 50-500 микросекунд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Облици: конвенционалн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сличан акупунктур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у салвам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одулисан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gate control" </a:t>
            </a: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теор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врата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,,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ups gelatinosi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редњих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рогова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ичмене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мождин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омпетиција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танких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дебелих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нервних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влакана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А бета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/А делта и 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GABA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очи пренос болних сигнала на ћелије у 5.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ламини к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м. ,,затвара врата,, у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задњим роговим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8:31:21Z</dcterms:created>
  <dc:creator>WIN98SE</dc:creator>
  <dc:description/>
  <dc:language>en-US</dc:language>
  <cp:lastModifiedBy>Info</cp:lastModifiedBy>
  <dcterms:modified xsi:type="dcterms:W3CDTF">2018-11-03T18:30:16Z</dcterms:modified>
  <cp:revision>48</cp:revision>
  <dc:subject/>
  <dc:title>NAIZMENIČNE STRUJE</dc:title>
</cp:coreProperties>
</file>